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35C7-F8CA-4888-9EB5-CE4AB3DEB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B7C5-ADCD-4A2D-99AB-47303D15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0B1A-F2E6-4BF3-9C3C-0DE00E6BE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6281-5A46-43FE-9140-4EE6D8068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47CF-F5CC-4D1C-8475-366F720F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74EF-362C-4269-8059-6C7C3051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C3FA-260C-454B-B132-A3E8352C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C8B8-690E-46B6-8DA3-0FA0E9F6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64CD-4EEB-4EA5-A37B-05B95468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D079-4460-4AA4-98F4-B7601864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867D-8B93-410E-B448-C3AC7D64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0450-EA64-4E0A-9A8F-A580E3EE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74BB-E20C-4933-8A7A-F9DF7C0FB06B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ites.google.com/site/frequencyspecificisc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tlab Toolbox for Inter-Subject Correlation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924520"/>
            <a:ext cx="6400800" cy="6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70c0"/>
                </a:solidFill>
                <a:latin typeface="Calibri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403280" y="2208240"/>
            <a:ext cx="626436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SC toolbox: 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fMRI studies utilizing natural stimuli such as movies, music, and video games are getting more and more popular (see, for example [1]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Because these stimuli are extremely complex, modeling hemodynamic responses using the GLM becomes inconveni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Inter-subject correlation (ISC) analysis does not require modeling of the hemodynamic response and has been succesfully applied to investigate natural stimulus fMRI data sets [2-4]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Comprehensive and easy-to-use toolbox to study the brain based on ISCs would be benefici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SC toolbox: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Runs on Matlab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Reads in preprocessed and registered fMRI data either in mat- or nifti-forma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The best way to avoid compatibility problems is to preprocess and register your data with the FS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Graphical User Interface (GUI) developed for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-setting-up your analysis parameters correct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-easy and quick visualization of the resul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Access of the results is fast and easy also directly using command line optio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The use of Matlab’s memory mapping feature avoids many problems associated with large data sets (in terms of both memory and speed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SC toolbox: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xel-wise ISC analysis across </a:t>
            </a: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bjec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-calculation of voxel-wise </a:t>
            </a:r>
            <a:r>
              <a:rPr b="0" i="1" lang="fi-FI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by </a:t>
            </a:r>
            <a:r>
              <a:rPr b="0" i="1" lang="fi-FI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correlation matrices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- permutation based inference on the average of the </a:t>
            </a:r>
            <a:r>
              <a:rPr b="0" i="1" lang="fi-FI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fi-FI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-1)/2 subject-pairwise correlation coefficients for each voxel [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above analysis can be perform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-across the whole scanning se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-within the specified time-windows to obtain time-varying ISC ma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-within distinct frequency-subbands to obtain frequency-specific ISC maps [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SC toolbox: Mor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362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800" spc="-1" strike="noStrike">
                <a:solidFill>
                  <a:srgbClr val="000000"/>
                </a:solidFill>
                <a:latin typeface="Calibri"/>
              </a:rPr>
              <a:t>In addition to mean ISC maps, one can investigate other maps including: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-the corresponding median, lower quartile, upper quartile and standard deviation map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-t statistical maps [4]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-contrast maps to compare ISC between frequency bands [3]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800" spc="-1" strike="noStrike">
                <a:solidFill>
                  <a:srgbClr val="000000"/>
                </a:solidFill>
                <a:latin typeface="Calibri"/>
              </a:rPr>
              <a:t>More features will be added to the toolbox in the near future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SC toolbox: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The maximum amount of memory required to run group ISC analysis is determined by the size of the fMRI data of a SINGLE subject (consider also memory limitation of Matlab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To run analysis in feasible time, we highly recommend grid computation unless very powerful computer is availa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After running the analysis, quick visualization and command line access of the results should be possible using your personal laptop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SC toolbox: Avail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0560" y="2320920"/>
            <a:ext cx="87138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ree toolbox is available via the following link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i-FI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ites.google.com/site/frequencyspecificis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any questions, contac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Jukka-pekka.kauppi {at} tut.f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9605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[1]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. Spiers and E. Maguire,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coding human brain activity during real-world experiences,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"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ends in Cognitive Sciences, vol. 11, no. 8, pp. 356-365, August 2007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[2] Hasson et al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“Intersubject synchronization of cortical activity during natural vision,” Science, vol. 303, no. 5664, pp. 1634–1640, March 2004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[3] Kauppi et al: ”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-subject correlation of brain hemodynamic responses during watching a movie: localization in space and frequency,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Frontiers in Neuroinformatics, March 2010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[4] Wilson et al: “Beyond superior temporal cortex: Intersubject correlations in narrative speech comprehension,” Cereb. Cortex, vol. 18, no. 1, pp. 230–242, January 2008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4T14:30:30Z</dcterms:created>
  <dc:creator>Jukkis</dc:creator>
  <dc:description/>
  <dc:language>en-US</dc:language>
  <cp:lastModifiedBy>Jukkis</cp:lastModifiedBy>
  <dcterms:modified xsi:type="dcterms:W3CDTF">2010-07-16T01:19:36Z</dcterms:modified>
  <cp:revision>101</cp:revision>
  <dc:subject/>
  <dc:title>Matlab Toolbox for Inter-Subject Correlation Analysis</dc:title>
</cp:coreProperties>
</file>